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19F-E5F4-4B87-B6BC-53C75F3B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C19-73B1-4280-A6E6-FED6CDDD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95F-0D08-4485-A4E2-4875E57F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420-2D03-404E-A210-0E37DA67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28ACD-3323-4152-969A-47858FEA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0B08-1F63-4076-96F8-B4B6DDF4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2C2BD-6104-4006-81DF-8E6A790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0F992-BA93-4A50-A35C-4F6372F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3EBC3-A058-426C-9960-F4F32B4A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A858-DAB6-4DFF-9D30-5DEC6D3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634D0-547D-4F1D-A35D-51C918C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510-0590-4363-8D60-A88F750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698E1-D8DE-42BD-BE3F-301AA0E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9725-881E-4457-AD9A-F39C517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206D7-C337-4E9D-B770-CEDEA6E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A3DB6-5372-49E4-8DD9-897D6C96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4B85-4BC7-4087-BFB2-2F56A28E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F44-0247-4887-8AAD-A41DF879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F0F-70B1-438A-8287-526257A8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C70-4C94-4CF3-A669-5234CC84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5E2-027F-4342-BE5A-0BAE7686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111-6A62-4802-97B4-575BC94E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28A-4E93-41EE-AF4C-CDFB177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6B8-8EF1-46F4-B189-92D0AC4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24F-B06F-41E1-A28B-2732B031A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4391-2FEB-431A-B37A-51244AD802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mework-choose one of the following to write about in your note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Imagine you are new in Maycomb and had recently met Scout, Jem and Dill. In a letter to a friend in your old hometown, describe the three of t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Jem has to go back for his pants. Respond in the dialogue below, and defend his actions to a friend who say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iend: It was stupid of Jem to go back for his pants; he could have been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ophone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s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cused Free wri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rather: 5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banned from the internet for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wat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v for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Practice-choose the word that best fits in the blan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s were ______ sharing their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acher wanted to create a ______ classroom enviro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 was kicked out of school for _______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mom had a look of ________ when I told her about my 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uidance counselor offered ________ for the students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KAM-Chapter 6 answer the following questions in your noteboo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the children were doing in the Radley yard and what they saw that made them run aw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ut didn’t want to join Jem and Dill, what did Dill say to her to convince 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it important to Jem that he go back and get his pants before morn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Jem say to Scout that shows he feels what they did was wro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ight account for Jem’s change of hear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Continued-think about handout before doing the following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the following characters change during the course of this chapter, or do they change at al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f the three children would you say is the major character in this chapter? Cite incidents from the chapter to support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n’t Forge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 due tomor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quiz tomorr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1:22:01Z</dcterms:created>
  <dc:creator>Angie</dc:creator>
  <dc:description/>
  <dc:language>en-US</dc:language>
  <cp:lastModifiedBy>Angie</cp:lastModifiedBy>
  <dcterms:modified xsi:type="dcterms:W3CDTF">2009-01-29T04:20:53Z</dcterms:modified>
  <cp:revision>3</cp:revision>
  <dc:subject/>
  <dc:title>DOL</dc:title>
</cp:coreProperties>
</file>